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7A44-D087-41A8-AEC9-359ACB3E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4BAD-C08C-4FB3-BCA8-48476D44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1696-30EF-4334-B727-E8C8BC784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8155-43C7-4C9C-ADA6-13E454830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E8B7-DA9E-465F-82B4-1B0C2688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A337-A1A9-4FBF-9069-337E3015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2D37-AE20-4DC3-A61F-C5E5BA4E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0825-5A94-4C78-881D-457B0AF1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2DD8-1E90-4592-B0C6-50E74C2C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C6E5-3116-4FEC-B783-F2B34A95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75CB-D112-40E9-A412-9B518C70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F67A-EA39-4E22-9939-B88D06F8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4F1F-76E4-4D36-B867-1BDBD77B6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logger.com/start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led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ting what you’ve learned to wor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5334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573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 “Look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4191120" cy="452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562720" y="1676520"/>
            <a:ext cx="29718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a template for your b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determines the color scheme and font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easily change this later if you don’t like your initial selec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you’ve selected a look and feel for your blog, click the orange “Continue” arr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657240" y="4724280"/>
            <a:ext cx="2057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522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69343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063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gratulations!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Are Now a Blogge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648320" cy="4525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791320" y="1752480"/>
            <a:ext cx="2895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you are a blogg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orange arrow that invites you to start blogging, go to your blog, and start writi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962160" y="2819520"/>
            <a:ext cx="19047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83808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previousslide"/>
          </p:cNvPr>
          <p:cNvSpPr/>
          <p:nvPr/>
        </p:nvSpPr>
        <p:spPr>
          <a:xfrm>
            <a:off x="70102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1785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rt With What You’ve Already Writ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each of the documents you created in this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you are happy with what you’ve written, identify some key words that reflect the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edit your blog. Create a new entry, and, one at a time, copy and paste each document as a new blog p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key terms and key words for each post, and save your postings as your complete the edit of that p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69343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5500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Wri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a time when you learned a valuable new lesson or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about an important day in your car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how you learned new information and sorted it all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some things that you wish you would have known years ag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69343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6854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ost Important Th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ing the information and knowledge learned by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ing the organization’s past in order to ensure our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 for participating in the organization’s Knowledge Management progra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" action="ppaction://hlinkshowjump?jump=previousslide"/>
          </p:cNvPr>
          <p:cNvSpPr/>
          <p:nvPr/>
        </p:nvSpPr>
        <p:spPr>
          <a:xfrm>
            <a:off x="69343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9366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 you for your contribution to the organization’s future by documenting the pas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3808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8069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nal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is course, we’ve discussed the importance of sharing knowledge within our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tools that is used in order to collect knowledge and information in order to share it is a “blog”—you will be creating one as your final course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5715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67057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323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Blo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log is short for a Web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n-line journal used to record your own lessons learned and 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ool used to share information across a community of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log is whatever you want it to b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52578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>
            <a:off x="70102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759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Blo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gs are search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thoughts and ideas can be logged without concerns for order, format, or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gs are already in wide use throughout our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53341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67816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8077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to beg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, create a b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blogger.com/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371600" y="2971800"/>
            <a:ext cx="4343400" cy="3473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477120" y="3276720"/>
            <a:ext cx="228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get a screen like this 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orange button that says “Create A Blog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4495320" y="4495320"/>
            <a:ext cx="17528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33520" y="59436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previousslide"/>
          </p:cNvPr>
          <p:cNvSpPr/>
          <p:nvPr/>
        </p:nvSpPr>
        <p:spPr>
          <a:xfrm>
            <a:off x="70102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6680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llow th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3581280" cy="4148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419720" y="1981080"/>
            <a:ext cx="38098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you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ame you want to have displayed on your blog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e to the legal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that you are not malicious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“Continu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3352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H="1">
            <a:off x="2971800" y="518148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68580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8422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ify Your Accou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5333760" cy="4525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629400" y="1905120"/>
            <a:ext cx="2133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your cellphone number to get a text message that will allow your to confirm this new accou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flipH="1">
            <a:off x="2590920" y="2362320"/>
            <a:ext cx="41148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" action="ppaction://hlinkshowjump?jump=previousslide"/>
          </p:cNvPr>
          <p:cNvSpPr/>
          <p:nvPr/>
        </p:nvSpPr>
        <p:spPr>
          <a:xfrm>
            <a:off x="70102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7172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er Your Confirmation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809880" cy="4525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105520" y="190512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the Confirmation Code you just received via text message and click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447560" y="2590920"/>
            <a:ext cx="373356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858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69343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0275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Your B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3809880" cy="4525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486400" y="1905120"/>
            <a:ext cx="312408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your blog (Jphn’s journal, for exam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URL where your blog can be found (use the default set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the information and val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“Continue” when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 flipH="1">
            <a:off x="3580920" y="4495680"/>
            <a:ext cx="2057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69343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4799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21:38:23Z</dcterms:created>
  <dc:creator>Anne Brooker-Grogan</dc:creator>
  <dc:description/>
  <dc:language>en-US</dc:language>
  <cp:lastModifiedBy>Anne Brooker-Grogan</cp:lastModifiedBy>
  <dcterms:modified xsi:type="dcterms:W3CDTF">2010-02-14T21:38:27Z</dcterms:modified>
  <cp:revision>16</cp:revision>
  <dc:subject/>
  <dc:title>Knowledge Management</dc:title>
</cp:coreProperties>
</file>